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4.gif" ContentType="image/gif"/>
  <Override PartName="/ppt/media/image25.png" ContentType="image/png"/>
  <Override PartName="/ppt/media/image2.png" ContentType="image/png"/>
  <Override PartName="/ppt/media/image32.png" ContentType="image/png"/>
  <Override PartName="/ppt/media/image29.png" ContentType="image/png"/>
  <Override PartName="/ppt/media/image6.png" ContentType="image/png"/>
  <Override PartName="/ppt/media/image9.png" ContentType="image/png"/>
  <Override PartName="/ppt/media/image11.png" ContentType="image/png"/>
  <Override PartName="/ppt/media/image5.wmf" ContentType="image/x-wmf"/>
  <Override PartName="/ppt/media/image10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0630-A4E8-4105-AC9A-D4BC089DA8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553B-70BC-471C-9702-58440C3295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FE0-C842-4FC4-A585-AD1383DF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438-8BA9-4DE3-B739-1BC356B1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31E-B645-4DCE-90C7-6EEC330F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47E-3694-4651-9921-A84A101F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A07F-3364-4B29-8014-2D1D524E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B25F-8D5E-4B76-B421-DE0EA5D8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C638-6A2C-4D06-8405-E764A5D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A46-7F2D-45B9-87E9-94DCDF3B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BEF3-E24D-4746-B133-2291B75B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72DF-F736-4C55-A316-F60F8F39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E8CA-53ED-4958-899D-FBE5C468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FD6-F60A-460E-87D0-7ECB0012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A778-D8DF-449B-9105-D27AA8A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FCAB-E2AB-449F-B402-E8ED4C7A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501-2E57-4CB6-B08B-A26FB6B5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5CC9-3C7C-47C7-8D08-5D10B461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84B0-8B4B-4E83-ABAF-B82C9CA4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DC8EC-2F59-4757-82B8-42E8F4EB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09E3-BCE6-4F4A-A35F-19C0859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5171-2187-4E70-80FE-E0067099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ED80D-A511-4D6B-8A9D-AAAB2CC3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138D-9DA8-4199-9232-3E2271C8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1CC-3B82-4070-BF79-378CAE0D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963C8-BEC5-4BAD-A567-F2A4A44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860A-40CD-4E93-9B09-34D00C7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33CB-A716-4F8F-9D5C-7C232DBE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48E8-A044-4311-A11E-2893D414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492D-9637-4A2C-9095-7740E15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9CF84-5DAE-44B2-905A-2558FA2C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558B-5FD8-4548-9F03-9FF7A2E2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911F-BFDD-4A9D-838F-2AB6C4D5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58FED-F89A-454E-9958-79245A9D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576F-B5C6-46F4-A7B3-25129F2A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EA4-C34B-460D-A1D7-BA18320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E6AC-8557-452A-A4BE-DD0D840E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44E4-9EF6-4617-AF60-D9A4A3D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E0646-AE41-4B35-B67E-D6D69B6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9E92-2E76-4781-B6D3-E6BE221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09458-0CC5-4DA4-B239-C9F3B9C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89D9-DB83-4F00-8E6C-6A71446C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8933-2633-4461-94BB-70A52FC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6FA8-3EF1-438D-A22C-23BE8EBB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1A3B-8820-4759-99F4-7FDBDF39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4BEA4-8D44-4EDB-BBD4-F9EE3C5C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EFE-380A-4BB4-AE0D-CF97C0C9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775D-04E3-4108-80FA-2278D9DD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B6C77-20F2-456C-9420-8484D833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A3AA-16E2-4BAD-B719-DE8678CF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2E2B6-C34E-46E7-9D47-085D14D2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E13D-EAB6-4175-9764-4C5BB562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4BF41-AFA9-4FA9-A947-1362CA0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9286-F1FB-476C-BFA0-E058328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AA8C-8992-4EFC-8181-041F31A5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975D-03AD-4DDE-A7B8-35B54A7C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2166B-56B4-4BF2-9605-FB3A66AD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0A8-8ACE-47B1-8D9C-DEAB9771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3D9CE-9116-47D2-9C7F-F14FB977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29E-8946-45D1-8485-094D334A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2F6-E235-42C3-84A9-B0644F7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E21-B81D-47EB-B02C-AE57617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8C41-5727-43D1-9D2F-ABC0225DB30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5CC3-9DE9-4118-8AAF-5723679F58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1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F8E-1F82-4B98-A0DE-AA4BF58D5A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8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3C30-2A2C-4357-949F-3EAC00BF71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5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8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FD9-65D0-43CB-852B-ABDE0164B8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3" descr="cartoon1364py"/>
          <p:cNvPicPr/>
          <p:nvPr/>
        </p:nvPicPr>
        <p:blipFill>
          <a:blip r:embed="rId1"/>
          <a:stretch/>
        </p:blipFill>
        <p:spPr>
          <a:xfrm>
            <a:off x="304920" y="1600200"/>
            <a:ext cx="3903480" cy="4468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4114800" y="175248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Lucida Sans Unicode"/>
              </a:rPr>
              <a:t>Добро пожаловать в мир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d0d0d"/>
                </a:solidFill>
                <a:latin typeface="Lucida Sans Unicode"/>
              </a:rPr>
              <a:t>функций</a:t>
            </a:r>
            <a:r>
              <a:rPr b="0" lang="ru-RU" sz="5400" spc="-1" strike="noStrike">
                <a:solidFill>
                  <a:srgbClr val="105766"/>
                </a:solidFill>
                <a:latin typeface="Lucida Sans Unicode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1676520" y="228600"/>
            <a:ext cx="5992560" cy="5814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Функция  у =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Tahoma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√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>
            <a:off x="5029200" y="304920"/>
            <a:ext cx="4572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Прямая со стрелкой 7"/>
          <p:cNvCxnSpPr/>
          <p:nvPr/>
        </p:nvCxnSpPr>
        <p:spPr>
          <a:xfrm flipV="1">
            <a:off x="1980000" y="1370880"/>
            <a:ext cx="252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Прямая со стрелкой 9"/>
          <p:cNvCxnSpPr/>
          <p:nvPr/>
        </p:nvCxnSpPr>
        <p:spPr>
          <a:xfrm>
            <a:off x="304920" y="3123720"/>
            <a:ext cx="3658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20" name="Диаграмма 6" descr=""/>
          <p:cNvPicPr/>
          <p:nvPr/>
        </p:nvPicPr>
        <p:blipFill>
          <a:blip r:embed="rId1"/>
          <a:stretch/>
        </p:blipFill>
        <p:spPr>
          <a:xfrm>
            <a:off x="-6480" y="2889360"/>
            <a:ext cx="2298960" cy="1231920"/>
          </a:xfrm>
          <a:prstGeom prst="rect">
            <a:avLst/>
          </a:prstGeom>
          <a:ln w="0">
            <a:noFill/>
          </a:ln>
        </p:spPr>
      </p:pic>
      <p:pic>
        <p:nvPicPr>
          <p:cNvPr id="321" name="Диаграмма 8" descr=""/>
          <p:cNvPicPr/>
          <p:nvPr/>
        </p:nvPicPr>
        <p:blipFill>
          <a:blip r:embed="rId2"/>
          <a:stretch/>
        </p:blipFill>
        <p:spPr>
          <a:xfrm>
            <a:off x="1749600" y="2432160"/>
            <a:ext cx="2292120" cy="11332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16"/>
          <p:cNvSpPr/>
          <p:nvPr/>
        </p:nvSpPr>
        <p:spPr>
          <a:xfrm>
            <a:off x="1914120" y="297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3822120" y="3200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2061360" y="1295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19"/>
          <p:cNvSpPr/>
          <p:nvPr/>
        </p:nvSpPr>
        <p:spPr>
          <a:xfrm>
            <a:off x="4191120" y="1295280"/>
            <a:ext cx="495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: ( -∞;+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значения функции:  ( -∞;+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чет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растает  ( -∞;+ ∞).(т.е на всей области   о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  Функция не ограничена ни сверху ,ни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т ни наименьшего, ни наибольшег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прерывна  на всей числов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ункция выпукла вниз на ( -∞;0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] и выпукла вниз на [0;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+∞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2" descr=""/>
          <p:cNvPicPr/>
          <p:nvPr/>
        </p:nvPicPr>
        <p:blipFill>
          <a:blip r:embed="rId1"/>
          <a:stretch/>
        </p:blipFill>
        <p:spPr>
          <a:xfrm>
            <a:off x="523800" y="811080"/>
            <a:ext cx="8431200" cy="8524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ая соединительная линия 4"/>
          <p:cNvSpPr/>
          <p:nvPr/>
        </p:nvSpPr>
        <p:spPr>
          <a:xfrm>
            <a:off x="7010280" y="990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6"/>
          <p:cNvCxnSpPr/>
          <p:nvPr/>
        </p:nvCxnSpPr>
        <p:spPr>
          <a:xfrm flipV="1">
            <a:off x="4494600" y="2590200"/>
            <a:ext cx="252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29" name="Диаграмма 7" descr=""/>
          <p:cNvPicPr/>
          <p:nvPr/>
        </p:nvPicPr>
        <p:blipFill>
          <a:blip r:embed="rId2"/>
          <a:stretch/>
        </p:blipFill>
        <p:spPr>
          <a:xfrm>
            <a:off x="4260960" y="3498840"/>
            <a:ext cx="2676240" cy="1133640"/>
          </a:xfrm>
          <a:prstGeom prst="rect">
            <a:avLst/>
          </a:prstGeom>
          <a:ln w="0">
            <a:noFill/>
          </a:ln>
        </p:spPr>
      </p:pic>
      <p:pic>
        <p:nvPicPr>
          <p:cNvPr id="330" name="Диаграмма 8" descr=""/>
          <p:cNvPicPr/>
          <p:nvPr/>
        </p:nvPicPr>
        <p:blipFill>
          <a:blip r:embed="rId3"/>
          <a:stretch/>
        </p:blipFill>
        <p:spPr>
          <a:xfrm>
            <a:off x="2432160" y="4035600"/>
            <a:ext cx="2298600" cy="1225440"/>
          </a:xfrm>
          <a:prstGeom prst="rect">
            <a:avLst/>
          </a:prstGeom>
          <a:ln w="0">
            <a:noFill/>
          </a:ln>
        </p:spPr>
      </p:pic>
      <p:cxnSp>
        <p:nvCxnSpPr>
          <p:cNvPr id="331" name="Прямая со стрелкой 10"/>
          <p:cNvCxnSpPr/>
          <p:nvPr/>
        </p:nvCxnSpPr>
        <p:spPr>
          <a:xfrm>
            <a:off x="2895480" y="4266720"/>
            <a:ext cx="3658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Прямая соединительная линия 12"/>
          <p:cNvSpPr/>
          <p:nvPr/>
        </p:nvSpPr>
        <p:spPr>
          <a:xfrm>
            <a:off x="2971800" y="4267080"/>
            <a:ext cx="3581280" cy="1800"/>
          </a:xfrm>
          <a:prstGeom prst="line">
            <a:avLst/>
          </a:prstGeom>
          <a:ln w="9360">
            <a:solidFill>
              <a:srgbClr val="da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3"/>
          <p:cNvSpPr/>
          <p:nvPr/>
        </p:nvSpPr>
        <p:spPr>
          <a:xfrm>
            <a:off x="11203560" y="556272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=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ая соединительная линия 15"/>
          <p:cNvSpPr/>
          <p:nvPr/>
        </p:nvSpPr>
        <p:spPr>
          <a:xfrm flipH="1">
            <a:off x="4493880" y="2668680"/>
            <a:ext cx="3240" cy="2971800"/>
          </a:xfrm>
          <a:prstGeom prst="line">
            <a:avLst/>
          </a:prstGeom>
          <a:ln w="9360">
            <a:solidFill>
              <a:srgbClr val="da1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7"/>
          <p:cNvSpPr/>
          <p:nvPr/>
        </p:nvSpPr>
        <p:spPr>
          <a:xfrm>
            <a:off x="11424600" y="48769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=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8"/>
          <p:cNvSpPr/>
          <p:nvPr/>
        </p:nvSpPr>
        <p:spPr>
          <a:xfrm>
            <a:off x="427644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9"/>
          <p:cNvSpPr/>
          <p:nvPr/>
        </p:nvSpPr>
        <p:spPr>
          <a:xfrm>
            <a:off x="4276440" y="4038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4"/>
          <p:cNvSpPr/>
          <p:nvPr/>
        </p:nvSpPr>
        <p:spPr>
          <a:xfrm>
            <a:off x="228600" y="1752480"/>
            <a:ext cx="2514600" cy="420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лучен из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ункции у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³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√х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утем сме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его на 1единиц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низ по оси Оу 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право по оси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20"/>
          <p:cNvSpPr/>
          <p:nvPr/>
        </p:nvSpPr>
        <p:spPr>
          <a:xfrm>
            <a:off x="2057400" y="2895480"/>
            <a:ext cx="152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0416 0.06667 E">
                                      <p:cBhvr>
                                        <p:cTn id="81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9 -0.04444 L -0.57657 -0.11574 E">
                                      <p:cBhvr>
                                        <p:cTn id="85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9166 -0.00556 E">
                                      <p:cBhvr>
                                        <p:cTn id="89" dur="2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96296E-006 L -0.64445 -0.19352 E">
                                      <p:cBhvr>
                                        <p:cTn id="93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0.01805 L 0.0875 0.07361 E">
                                      <p:cBhvr>
                                        <p:cTn id="9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3333 L 0.1 0.05555 E">
                                      <p:cBhvr>
                                        <p:cTn id="101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ть на монотонность функцию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5 – 2х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дем обозна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 – 2х.Возьмем поизвольные значения аргумента 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и пусть 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Тогда по свойствам числовых неравенств получается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2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gt;-2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5 – 2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gt;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 2х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следнее неравенство означает, что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1)&gt;f(x2)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так, из х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едует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&gt;f(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а это означает, что заданная функция убывает (на всей числовой прямой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5-конечная звезда 13"/>
          <p:cNvSpPr/>
          <p:nvPr/>
        </p:nvSpPr>
        <p:spPr>
          <a:xfrm>
            <a:off x="1752480" y="342900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5-конечная звезда 13"/>
          <p:cNvSpPr/>
          <p:nvPr/>
        </p:nvSpPr>
        <p:spPr>
          <a:xfrm>
            <a:off x="6858000" y="304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Цель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исследовать на ограниченность функцию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у=√9 – х  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еш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 одной стороны неравенство верное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√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9 – х  ≥0(по определению квадратного корня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√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а ≥0). Это означает, что функция ограничена снизу(в своей области определения,т.е. на отрезке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-3;3]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С другой стороны, дл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любого х∈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-3;3]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выполняется неравенство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9 – х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≤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9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а потому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√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9 – х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≤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3 – Это значит, что функция ограничена сверху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5-конечная звезда 13"/>
          <p:cNvSpPr/>
          <p:nvPr/>
        </p:nvSpPr>
        <p:spPr>
          <a:xfrm>
            <a:off x="2514600" y="358128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5-конечная звезда 13"/>
          <p:cNvSpPr/>
          <p:nvPr/>
        </p:nvSpPr>
        <p:spPr>
          <a:xfrm>
            <a:off x="7086600" y="304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8"/>
          <p:cNvSpPr/>
          <p:nvPr/>
        </p:nvSpPr>
        <p:spPr>
          <a:xfrm>
            <a:off x="2590920" y="220968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1525320" y="220968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5335560" y="251460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5259240" y="502920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411520" y="5257800"/>
            <a:ext cx="61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Цель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найти наименьшее и наибольшее значения функц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 примере 2 мы уже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оказали,                              что 0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≤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√9 - х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≤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,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где х ∈ 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[-3;3]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 Кроме того, если х=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±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3, то у=0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Значит у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 Аналогично, если х=0, то у=3. Поэтому у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3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у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, у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5-конечная звезда 13"/>
          <p:cNvSpPr/>
          <p:nvPr/>
        </p:nvSpPr>
        <p:spPr>
          <a:xfrm>
            <a:off x="2133720" y="3733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5-конечная звезда 13"/>
          <p:cNvSpPr/>
          <p:nvPr/>
        </p:nvSpPr>
        <p:spPr>
          <a:xfrm>
            <a:off x="7086600" y="304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450720" y="37800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ВТО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ирочка Дмитрий Александрови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УКОВОДИТЕЛЬ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хно Елена Иванов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5-конечная звезда 13"/>
          <p:cNvSpPr/>
          <p:nvPr/>
        </p:nvSpPr>
        <p:spPr>
          <a:xfrm>
            <a:off x="762120" y="304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5-конечная звезда 13"/>
          <p:cNvSpPr/>
          <p:nvPr/>
        </p:nvSpPr>
        <p:spPr>
          <a:xfrm>
            <a:off x="7924680" y="48769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5-конечная звезда 13"/>
          <p:cNvSpPr/>
          <p:nvPr/>
        </p:nvSpPr>
        <p:spPr>
          <a:xfrm>
            <a:off x="5486400" y="472428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5-конечная звезда 13"/>
          <p:cNvSpPr/>
          <p:nvPr/>
        </p:nvSpPr>
        <p:spPr>
          <a:xfrm>
            <a:off x="2666880" y="464832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9"/>
          <p:cNvSpPr/>
          <p:nvPr/>
        </p:nvSpPr>
        <p:spPr>
          <a:xfrm>
            <a:off x="0" y="685800"/>
            <a:ext cx="3809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Графиком квадратичной функции  является парабола, вершина которой находится в начале координ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Если к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&gt;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 0 , то ветви параболы направлены ввер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у=  х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2"/>
          <p:cNvGraphicFramePr/>
          <p:nvPr/>
        </p:nvGraphicFramePr>
        <p:xfrm>
          <a:off x="3854520" y="0"/>
          <a:ext cx="5289480" cy="39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4520" y="0"/>
                    <a:ext cx="528948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80880" y="2819520"/>
          <a:ext cx="2941920" cy="664920"/>
        </p:xfrm>
        <a:graphic>
          <a:graphicData uri="http://schemas.openxmlformats.org/drawingml/2006/table">
            <a:tbl>
              <a:tblPr/>
              <a:tblGrid>
                <a:gridCol w="42084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</a:tblGrid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10"/>
          <p:cNvSpPr/>
          <p:nvPr/>
        </p:nvSpPr>
        <p:spPr>
          <a:xfrm>
            <a:off x="228600" y="396252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Свойства данной функции  при к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&gt;0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 ( - ∞ ; +∞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=0  при х = 0 , у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gt;0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ри х ≠ 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= к 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является непрерывной функцией  ( т.е график  сплошная ли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= 0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ри х = 0 ; у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mak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не существуе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растает данная функция у= к 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при х ≥ 0 ; убывает при х ≤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анная функция   ограничена сверху , но не ограничена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Прямоугольник 8"/>
          <p:cNvGrpSpPr/>
          <p:nvPr/>
        </p:nvGrpSpPr>
        <p:grpSpPr>
          <a:xfrm>
            <a:off x="347760" y="152280"/>
            <a:ext cx="3078000" cy="524160"/>
            <a:chOff x="347760" y="152280"/>
            <a:chExt cx="3078000" cy="524160"/>
          </a:xfrm>
        </p:grpSpPr>
        <p:pic>
          <p:nvPicPr>
            <p:cNvPr id="246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347760" y="152280"/>
              <a:ext cx="307800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19400" y="228600"/>
              <a:ext cx="296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da1f28"/>
                  </a:solidFill>
                  <a:latin typeface="Book Antiqua"/>
                </a:rPr>
                <a:t>Функция вида : у = кх </a:t>
              </a:r>
              <a:r>
                <a:rPr b="1" lang="en-US" sz="1800" spc="-1" strike="noStrike">
                  <a:solidFill>
                    <a:srgbClr val="da1f28"/>
                  </a:solidFill>
                  <a:latin typeface="Lucida Sans Unicode"/>
                </a:rPr>
                <a:t>²</a:t>
              </a:r>
              <a:r>
                <a:rPr b="1" lang="ru-RU" sz="1800" spc="-1" strike="noStrike">
                  <a:solidFill>
                    <a:srgbClr val="da1f28"/>
                  </a:solidFill>
                  <a:latin typeface="Lucida Sans Unicode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0" y="685800"/>
            <a:ext cx="53038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Если к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&lt;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0 , то ветви параб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направлены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Графиком функции является парабола , вершина которой  проходит через начало ко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 данной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. Область определения ( - ∞ ; +∞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.у=0  при х = 0 , у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ри х ≠ 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06440" y="2492280"/>
          <a:ext cx="2941560" cy="665280"/>
        </p:xfrm>
        <a:graphic>
          <a:graphicData uri="http://schemas.openxmlformats.org/drawingml/2006/table">
            <a:tbl>
              <a:tblPr/>
              <a:tblGrid>
                <a:gridCol w="420480"/>
                <a:gridCol w="360360"/>
                <a:gridCol w="360360"/>
                <a:gridCol w="358920"/>
                <a:gridCol w="360360"/>
                <a:gridCol w="360360"/>
                <a:gridCol w="360360"/>
                <a:gridCol w="36036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36"/>
          <p:cNvSpPr/>
          <p:nvPr/>
        </p:nvSpPr>
        <p:spPr>
          <a:xfrm>
            <a:off x="-12240" y="4648320"/>
            <a:ext cx="926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. у= к 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является непрерывной функцией  ( т.е график  сплошная ли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4. у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m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= 0 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ри х = 0 ; у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не существуе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Возрастает данная функция у= к х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при х ≤0 ; убывает при х ≥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6. Данная функция   ограничена снизу , но не ограничена свер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4718160" y="0"/>
          <a:ext cx="4425840" cy="44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8160" y="0"/>
                    <a:ext cx="44258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55600" y="122400"/>
            <a:ext cx="8497800" cy="8953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3940200" y="1600200"/>
            <a:ext cx="520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: при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&g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: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значения функции: 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чет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бывает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(т.е на все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  Функция не ограничена ни сверху ,ни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т ни наименьшего, ни наибольшег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прерывна  при  х &gt;0  и при х &lt;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Прямая со стрелкой 5"/>
          <p:cNvCxnSpPr/>
          <p:nvPr/>
        </p:nvCxnSpPr>
        <p:spPr>
          <a:xfrm flipV="1">
            <a:off x="1905120" y="1371240"/>
            <a:ext cx="2160" cy="358200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56" name="Прямая со стрелкой 7"/>
          <p:cNvCxnSpPr/>
          <p:nvPr/>
        </p:nvCxnSpPr>
        <p:spPr>
          <a:xfrm>
            <a:off x="380880" y="3200400"/>
            <a:ext cx="3353760" cy="2160"/>
          </a:xfrm>
          <a:prstGeom prst="straightConnector1">
            <a:avLst/>
          </a:prstGeom>
          <a:ln w="9360">
            <a:solidFill>
              <a:srgbClr val="262626"/>
            </a:solidFill>
            <a:miter/>
            <a:tailEnd len="med" type="arrow" w="med"/>
          </a:ln>
        </p:spPr>
      </p:cxnSp>
      <p:pic>
        <p:nvPicPr>
          <p:cNvPr id="257" name="Диаграмма 8" descr=""/>
          <p:cNvPicPr/>
          <p:nvPr/>
        </p:nvPicPr>
        <p:blipFill>
          <a:blip r:embed="rId2"/>
          <a:stretch/>
        </p:blipFill>
        <p:spPr>
          <a:xfrm>
            <a:off x="1822320" y="1365120"/>
            <a:ext cx="2146320" cy="1738440"/>
          </a:xfrm>
          <a:prstGeom prst="rect">
            <a:avLst/>
          </a:prstGeom>
          <a:ln w="0">
            <a:noFill/>
          </a:ln>
        </p:spPr>
      </p:pic>
      <p:pic>
        <p:nvPicPr>
          <p:cNvPr id="258" name="Диаграмма 9" descr=""/>
          <p:cNvPicPr/>
          <p:nvPr/>
        </p:nvPicPr>
        <p:blipFill>
          <a:blip r:embed="rId3"/>
          <a:stretch/>
        </p:blipFill>
        <p:spPr>
          <a:xfrm>
            <a:off x="378000" y="3193920"/>
            <a:ext cx="1695240" cy="209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190548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3429000" y="32767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1525680" y="1371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5-конечная звезда 13"/>
          <p:cNvSpPr/>
          <p:nvPr/>
        </p:nvSpPr>
        <p:spPr>
          <a:xfrm>
            <a:off x="7924680" y="5715000"/>
            <a:ext cx="914400" cy="914400"/>
          </a:xfrm>
          <a:prstGeom prst="pi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3" name="Прямая со стрелкой 3"/>
          <p:cNvCxnSpPr/>
          <p:nvPr/>
        </p:nvCxnSpPr>
        <p:spPr>
          <a:xfrm>
            <a:off x="380880" y="3200400"/>
            <a:ext cx="3353760" cy="216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264" name="Прямая со стрелкой 4"/>
          <p:cNvCxnSpPr/>
          <p:nvPr/>
        </p:nvCxnSpPr>
        <p:spPr>
          <a:xfrm flipV="1">
            <a:off x="1905120" y="1371240"/>
            <a:ext cx="2160" cy="358200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pic>
        <p:nvPicPr>
          <p:cNvPr id="265" name="Диаграмма 5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1901880" cy="1676520"/>
          </a:xfrm>
          <a:prstGeom prst="rect">
            <a:avLst/>
          </a:prstGeom>
          <a:ln w="0">
            <a:noFill/>
          </a:ln>
        </p:spPr>
      </p:pic>
      <p:pic>
        <p:nvPicPr>
          <p:cNvPr id="266" name="Диаграмма 6" descr=""/>
          <p:cNvPicPr/>
          <p:nvPr/>
        </p:nvPicPr>
        <p:blipFill>
          <a:blip r:embed="rId2"/>
          <a:stretch/>
        </p:blipFill>
        <p:spPr>
          <a:xfrm>
            <a:off x="1517760" y="3346560"/>
            <a:ext cx="2371680" cy="17618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7"/>
          <p:cNvSpPr/>
          <p:nvPr/>
        </p:nvSpPr>
        <p:spPr>
          <a:xfrm>
            <a:off x="1829160" y="2819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3350880" y="281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>
            <a:off x="1982880" y="1371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3733920" y="1447920"/>
            <a:ext cx="5410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: при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: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значения функции: 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чет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растает 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(т.е на всей области   опре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  Функция не ограничена ни сверху ,ни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т ни наименьшего, ни наибольшег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прерывна  при  х &gt;0  и при х &lt;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Диаграмма 3" descr=""/>
          <p:cNvPicPr/>
          <p:nvPr/>
        </p:nvPicPr>
        <p:blipFill>
          <a:blip r:embed="rId1"/>
          <a:stretch/>
        </p:blipFill>
        <p:spPr>
          <a:xfrm>
            <a:off x="4718160" y="1139760"/>
            <a:ext cx="2603520" cy="2573280"/>
          </a:xfrm>
          <a:prstGeom prst="rect">
            <a:avLst/>
          </a:prstGeom>
          <a:ln w="0">
            <a:noFill/>
          </a:ln>
        </p:spPr>
      </p:pic>
      <p:pic>
        <p:nvPicPr>
          <p:cNvPr id="272" name="Диаграмма 4" descr=""/>
          <p:cNvPicPr/>
          <p:nvPr/>
        </p:nvPicPr>
        <p:blipFill>
          <a:blip r:embed="rId2"/>
          <a:stretch/>
        </p:blipFill>
        <p:spPr>
          <a:xfrm>
            <a:off x="2968560" y="3498840"/>
            <a:ext cx="1682640" cy="2676600"/>
          </a:xfrm>
          <a:prstGeom prst="rect">
            <a:avLst/>
          </a:prstGeom>
          <a:ln w="0">
            <a:noFill/>
          </a:ln>
        </p:spPr>
      </p:pic>
      <p:cxnSp>
        <p:nvCxnSpPr>
          <p:cNvPr id="273" name="Прямая со стрелкой 8"/>
          <p:cNvCxnSpPr/>
          <p:nvPr/>
        </p:nvCxnSpPr>
        <p:spPr>
          <a:xfrm flipV="1">
            <a:off x="4800600" y="990360"/>
            <a:ext cx="2160" cy="43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4" name="Прямая со стрелкой 10"/>
          <p:cNvCxnSpPr/>
          <p:nvPr/>
        </p:nvCxnSpPr>
        <p:spPr>
          <a:xfrm>
            <a:off x="1904760" y="3809520"/>
            <a:ext cx="60202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5" name="Прямая со стрелкой 12"/>
          <p:cNvCxnSpPr/>
          <p:nvPr/>
        </p:nvCxnSpPr>
        <p:spPr>
          <a:xfrm flipV="1">
            <a:off x="4799160" y="992160"/>
            <a:ext cx="3600" cy="495324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>
            <a:off x="1447560" y="3809520"/>
            <a:ext cx="6477480" cy="2520"/>
          </a:xfrm>
          <a:prstGeom prst="straightConnector1">
            <a:avLst/>
          </a:prstGeom>
          <a:ln w="9360">
            <a:solidFill>
              <a:srgbClr val="f9f9f9"/>
            </a:solidFill>
            <a:miter/>
            <a:tailEnd len="med" type="arrow" w="med"/>
          </a:ln>
        </p:spPr>
      </p:cxnSp>
      <p:pic>
        <p:nvPicPr>
          <p:cNvPr id="277" name="Диаграмма 17" descr=""/>
          <p:cNvPicPr/>
          <p:nvPr/>
        </p:nvPicPr>
        <p:blipFill>
          <a:blip r:embed="rId3"/>
          <a:stretch/>
        </p:blipFill>
        <p:spPr>
          <a:xfrm>
            <a:off x="4718160" y="1139760"/>
            <a:ext cx="2603520" cy="2573280"/>
          </a:xfrm>
          <a:prstGeom prst="rect">
            <a:avLst/>
          </a:prstGeom>
          <a:ln w="0">
            <a:noFill/>
          </a:ln>
        </p:spPr>
      </p:pic>
      <p:pic>
        <p:nvPicPr>
          <p:cNvPr id="278" name="Диаграмма 18" descr=""/>
          <p:cNvPicPr/>
          <p:nvPr/>
        </p:nvPicPr>
        <p:blipFill>
          <a:blip r:embed="rId4"/>
          <a:stretch/>
        </p:blipFill>
        <p:spPr>
          <a:xfrm>
            <a:off x="2968560" y="3498840"/>
            <a:ext cx="1682640" cy="2676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9"/>
          <p:cNvSpPr/>
          <p:nvPr/>
        </p:nvSpPr>
        <p:spPr>
          <a:xfrm>
            <a:off x="4885920" y="3886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876920" y="38862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7632360" y="40384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4423680" y="762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3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5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строить  график функции у = ( 1/(х+2)) 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4"/>
          <p:cNvSpPr/>
          <p:nvPr/>
        </p:nvSpPr>
        <p:spPr>
          <a:xfrm>
            <a:off x="12047400" y="54864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11646720" y="457200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4"/>
          <p:cNvSpPr/>
          <p:nvPr/>
        </p:nvSpPr>
        <p:spPr>
          <a:xfrm>
            <a:off x="5334120" y="44197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к функции полу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з графика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= 1/х   путем смещения его на 2 единицы вверх по оси Оу и на 2 единицы  влево по оси О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9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3506E-006 L -0.11666 -4.13506E-006 E">
                                      <p:cBhvr>
                                        <p:cTn id="11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99723 -0.58241 E">
                                      <p:cBhvr>
                                        <p:cTn id="15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2812E-006 L -0.00417 -0.16651 E">
                                      <p:cBhvr>
                                        <p:cTn id="19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48148E-006 L -0.46076 -0.2713 E">
                                      <p:cBhvr>
                                        <p:cTn id="23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76411E-006 L -0.125 -0.18664 E">
                                      <p:cBhvr>
                                        <p:cTn id="27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86772E-006 L -0.1 -0.18316 E">
                                      <p:cBhvr>
                                        <p:cTn id="31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5.2729E-007 L -0.13472 -0.19334 E">
                                      <p:cBhvr>
                                        <p:cTn id="35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extBox 3" descr=""/>
          <p:cNvPicPr/>
          <p:nvPr/>
        </p:nvPicPr>
        <p:blipFill>
          <a:blip r:embed="rId1"/>
          <a:stretch/>
        </p:blipFill>
        <p:spPr>
          <a:xfrm>
            <a:off x="2206800" y="146160"/>
            <a:ext cx="4919400" cy="523800"/>
          </a:xfrm>
          <a:prstGeom prst="rect">
            <a:avLst/>
          </a:prstGeom>
          <a:ln w="0">
            <a:noFill/>
          </a:ln>
        </p:spPr>
      </p:pic>
      <p:cxnSp>
        <p:nvCxnSpPr>
          <p:cNvPr id="288" name="Прямая со стрелкой 5"/>
          <p:cNvCxnSpPr/>
          <p:nvPr/>
        </p:nvCxnSpPr>
        <p:spPr>
          <a:xfrm flipV="1">
            <a:off x="1600200" y="1066320"/>
            <a:ext cx="76680" cy="419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9" name="Прямая со стрелкой 7"/>
          <p:cNvCxnSpPr/>
          <p:nvPr/>
        </p:nvCxnSpPr>
        <p:spPr>
          <a:xfrm>
            <a:off x="-360" y="3580920"/>
            <a:ext cx="3429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0" name="Диаграмма 8" descr=""/>
          <p:cNvPicPr/>
          <p:nvPr/>
        </p:nvPicPr>
        <p:blipFill>
          <a:blip r:embed="rId2"/>
          <a:stretch/>
        </p:blipFill>
        <p:spPr>
          <a:xfrm>
            <a:off x="1749600" y="1292400"/>
            <a:ext cx="1353960" cy="2232000"/>
          </a:xfrm>
          <a:prstGeom prst="rect">
            <a:avLst/>
          </a:prstGeom>
          <a:ln w="0">
            <a:noFill/>
          </a:ln>
        </p:spPr>
      </p:pic>
      <p:pic>
        <p:nvPicPr>
          <p:cNvPr id="291" name="Диаграмма 9" descr=""/>
          <p:cNvPicPr/>
          <p:nvPr/>
        </p:nvPicPr>
        <p:blipFill>
          <a:blip r:embed="rId3"/>
          <a:stretch/>
        </p:blipFill>
        <p:spPr>
          <a:xfrm>
            <a:off x="225360" y="1365120"/>
            <a:ext cx="1444680" cy="229896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11"/>
          <p:cNvSpPr/>
          <p:nvPr/>
        </p:nvSpPr>
        <p:spPr>
          <a:xfrm>
            <a:off x="3581280" y="1447920"/>
            <a:ext cx="54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: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значения функции:   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т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растает  ( -∞;0) и убывает 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  Функция  ограничена  снизу, но не ограничена  сверх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т ни наименьшего, ни наибольшег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прерывна  при  х &gt;0  и при х &lt;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3"/>
          <p:cNvSpPr/>
          <p:nvPr/>
        </p:nvSpPr>
        <p:spPr>
          <a:xfrm>
            <a:off x="3733920" y="114300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войств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определения: ( -∞;0)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(0;+ ∞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ласть значения функции: ( -∞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тная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растает (0;+ ∞) и убывает( -∞;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5.   Функция  ограничена  сверху, но не ограничена сни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т ни наименьшего, ни наибольшег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Непрерывна  при  х &gt;0  и при х &lt;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Прямая со стрелкой 6"/>
          <p:cNvCxnSpPr/>
          <p:nvPr/>
        </p:nvCxnSpPr>
        <p:spPr>
          <a:xfrm flipV="1">
            <a:off x="1980000" y="534600"/>
            <a:ext cx="2520" cy="43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5" name="Прямая со стрелкой 8"/>
          <p:cNvCxnSpPr/>
          <p:nvPr/>
        </p:nvCxnSpPr>
        <p:spPr>
          <a:xfrm>
            <a:off x="228240" y="1752120"/>
            <a:ext cx="3353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96" name="Диаграмма 9" descr=""/>
          <p:cNvPicPr/>
          <p:nvPr/>
        </p:nvPicPr>
        <p:blipFill>
          <a:blip r:embed="rId1"/>
          <a:stretch/>
        </p:blipFill>
        <p:spPr>
          <a:xfrm>
            <a:off x="298440" y="1670040"/>
            <a:ext cx="1859040" cy="3743280"/>
          </a:xfrm>
          <a:prstGeom prst="rect">
            <a:avLst/>
          </a:prstGeom>
          <a:ln w="0">
            <a:noFill/>
          </a:ln>
        </p:spPr>
      </p:pic>
      <p:pic>
        <p:nvPicPr>
          <p:cNvPr id="297" name="Диаграмма 5" descr=""/>
          <p:cNvPicPr/>
          <p:nvPr/>
        </p:nvPicPr>
        <p:blipFill>
          <a:blip r:embed="rId2"/>
          <a:stretch/>
        </p:blipFill>
        <p:spPr>
          <a:xfrm>
            <a:off x="1974960" y="1670040"/>
            <a:ext cx="1689120" cy="36702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0"/>
          <p:cNvSpPr/>
          <p:nvPr/>
        </p:nvSpPr>
        <p:spPr>
          <a:xfrm>
            <a:off x="2061360" y="4572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1"/>
          <p:cNvSpPr/>
          <p:nvPr/>
        </p:nvSpPr>
        <p:spPr>
          <a:xfrm>
            <a:off x="3288960" y="1371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2"/>
          <p:cNvSpPr/>
          <p:nvPr/>
        </p:nvSpPr>
        <p:spPr>
          <a:xfrm>
            <a:off x="1990440" y="144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TextBox 14" descr=""/>
          <p:cNvPicPr/>
          <p:nvPr/>
        </p:nvPicPr>
        <p:blipFill>
          <a:blip r:embed="rId3"/>
          <a:stretch/>
        </p:blipFill>
        <p:spPr>
          <a:xfrm>
            <a:off x="2901960" y="146160"/>
            <a:ext cx="5194440" cy="523800"/>
          </a:xfrm>
          <a:prstGeom prst="rect">
            <a:avLst/>
          </a:prstGeom>
          <a:ln w="0">
            <a:noFill/>
          </a:ln>
        </p:spPr>
      </p:pic>
    </p:spTree>
  </p:cSld>
  <p:transition advTm="27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2" name="Прямая со стрелкой 4"/>
          <p:cNvCxnSpPr/>
          <p:nvPr/>
        </p:nvCxnSpPr>
        <p:spPr>
          <a:xfrm flipV="1">
            <a:off x="3961440" y="990720"/>
            <a:ext cx="76680" cy="49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Прямая со стрелкой 6"/>
          <p:cNvCxnSpPr/>
          <p:nvPr/>
        </p:nvCxnSpPr>
        <p:spPr>
          <a:xfrm>
            <a:off x="1904760" y="3429000"/>
            <a:ext cx="51822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4" name="Прямая соединительная линия 8"/>
          <p:cNvSpPr/>
          <p:nvPr/>
        </p:nvSpPr>
        <p:spPr>
          <a:xfrm flipH="1">
            <a:off x="3962160" y="609480"/>
            <a:ext cx="75960" cy="518184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0"/>
          <p:cNvSpPr/>
          <p:nvPr/>
        </p:nvSpPr>
        <p:spPr>
          <a:xfrm>
            <a:off x="1905120" y="3429000"/>
            <a:ext cx="5410080" cy="7632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Диаграмма 11" descr=""/>
          <p:cNvPicPr/>
          <p:nvPr/>
        </p:nvPicPr>
        <p:blipFill>
          <a:blip r:embed="rId1"/>
          <a:stretch/>
        </p:blipFill>
        <p:spPr>
          <a:xfrm>
            <a:off x="3956040" y="835200"/>
            <a:ext cx="2603520" cy="2573280"/>
          </a:xfrm>
          <a:prstGeom prst="rect">
            <a:avLst/>
          </a:prstGeom>
          <a:ln w="0">
            <a:noFill/>
          </a:ln>
        </p:spPr>
      </p:pic>
      <p:pic>
        <p:nvPicPr>
          <p:cNvPr id="307" name="Диаграмма 12" descr=""/>
          <p:cNvPicPr/>
          <p:nvPr/>
        </p:nvPicPr>
        <p:blipFill>
          <a:blip r:embed="rId2"/>
          <a:stretch/>
        </p:blipFill>
        <p:spPr>
          <a:xfrm>
            <a:off x="2279520" y="2968560"/>
            <a:ext cx="1689120" cy="2676600"/>
          </a:xfrm>
          <a:prstGeom prst="rect">
            <a:avLst/>
          </a:prstGeom>
          <a:ln w="0">
            <a:noFill/>
          </a:ln>
        </p:spPr>
      </p:pic>
      <p:sp>
        <p:nvSpPr>
          <p:cNvPr id="308" name="TextBox 15"/>
          <p:cNvSpPr/>
          <p:nvPr/>
        </p:nvSpPr>
        <p:spPr>
          <a:xfrm>
            <a:off x="914400" y="152280"/>
            <a:ext cx="80010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51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у = ( х-2) </a:t>
            </a:r>
            <a:r>
              <a:rPr b="0" lang="he-IL" sz="2800" spc="-1" strike="noStrike">
                <a:solidFill>
                  <a:srgbClr val="000000"/>
                </a:solidFill>
                <a:latin typeface="Tahoma"/>
                <a:cs typeface="Tahoma"/>
              </a:rPr>
              <a:t>־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³+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3590640" y="2133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47336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8"/>
          <p:cNvSpPr/>
          <p:nvPr/>
        </p:nvSpPr>
        <p:spPr>
          <a:xfrm flipH="1">
            <a:off x="3962520" y="3429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9"/>
          <p:cNvSpPr/>
          <p:nvPr/>
        </p:nvSpPr>
        <p:spPr>
          <a:xfrm>
            <a:off x="397152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11012760" y="9144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4"/>
          <p:cNvSpPr/>
          <p:nvPr/>
        </p:nvSpPr>
        <p:spPr>
          <a:xfrm>
            <a:off x="11543400" y="243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3886200" y="4495680"/>
            <a:ext cx="525780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График функции получен из графика  функции  у=</a:t>
            </a:r>
            <a:r>
              <a:rPr b="0" lang="he-IL" sz="2400" spc="-1" strike="noStrike">
                <a:solidFill>
                  <a:srgbClr val="000000"/>
                </a:solidFill>
                <a:latin typeface="Tahoma"/>
                <a:cs typeface="Tahoma"/>
              </a:rPr>
              <a:t>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³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, путем смещения графика   на 2 единицы вверх по оси Оу и на 2  единицы вправо  по оси О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2777 L 0.02083 -0.15555 E">
                                      <p:cBhvr>
                                        <p:cTn id="4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81481E-006 L -0.62761 0.20648 E">
                                      <p:cBhvr>
                                        <p:cTn id="5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1111 L 0.08334 0.01111 E">
                                      <p:cBhvr>
                                        <p:cTn id="5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-0.71944 -0.24908 E">
                                      <p:cBhvr>
                                        <p:cTn id="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8881 L 0.08333 -0.16443 E">
                                      <p:cBhvr>
                                        <p:cTn id="6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022E-006 L 0.1 -0.14986 E">
                                      <p:cBhvr>
                                        <p:cTn id="6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64477E-006 L 0.09167 -0.19334 E">
                                      <p:cBhvr>
                                        <p:cTn id="70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1-31T05:54:18Z</dcterms:modified>
  <cp:revision>41</cp:revision>
  <dc:subject/>
  <dc:title>Слайд 1</dc:title>
</cp:coreProperties>
</file>